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7A1-B7B5-4FEC-866D-C540EA2B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264-A16C-4210-A565-AB65D79F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1C7-7559-452B-92B4-5F379C4B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D94-FF68-4C73-ABFA-F82375C0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7838-5FFB-4F76-AD6C-E028A8C0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ECB-9E95-4B2A-B6CC-E0A1E80F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B81-E372-4509-908E-94078A1B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E8E-F01D-4954-8EB2-1CE00929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0AE-9B84-426C-AC23-A59D89DA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362-57D7-4C0E-9766-05E66779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9E0-C40C-4642-AAF1-A111CA97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704-2048-4A56-AB36-74A4C06A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8925-76B6-42F3-9AFC-56B85735275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2. Június 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3898800" y="425520"/>
            <a:ext cx="13446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1480" y="4761000"/>
            <a:ext cx="8137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Az Országos Tudományos Diákköri Konferencián, valamint tudományos műhelyein való részvétel és a lebonyolítási fel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ellátása”című NTP-HHTDK-21-0042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1236600" y="4395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Kép 10" descr="http://www.emet.gov.hu/_userfiles/hirek/NTP/ntp_72_rgb.jpg"/>
          <p:cNvPicPr/>
          <p:nvPr/>
        </p:nvPicPr>
        <p:blipFill>
          <a:blip r:embed="rId3"/>
          <a:stretch/>
        </p:blipFill>
        <p:spPr>
          <a:xfrm>
            <a:off x="74772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Kép 11" descr="http://www.emet.gov.hu/_userfiles/hatter_1/emet_logok/%C3%BAj%20logo/emet_logo_szines.jpg"/>
          <p:cNvPicPr/>
          <p:nvPr/>
        </p:nvPicPr>
        <p:blipFill>
          <a:blip r:embed="rId4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Kép 10" descr=""/>
          <p:cNvPicPr/>
          <p:nvPr/>
        </p:nvPicPr>
        <p:blipFill>
          <a:blip r:embed="rId5"/>
          <a:stretch/>
        </p:blipFill>
        <p:spPr>
          <a:xfrm>
            <a:off x="6567480" y="490680"/>
            <a:ext cx="1533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2-05-31T07:35:05Z</dcterms:modified>
  <cp:revision>13</cp:revision>
  <dc:subject/>
  <dc:title>DUNÁNTÚLI MANDULAFA</dc:title>
</cp:coreProperties>
</file>