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BA83-B2BC-4E7A-8AC7-AB12540A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2168-45AA-401C-896A-0735F9F9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452F-B4A3-4ED8-9324-C0399389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3B4E-A652-47E5-BFAF-E114E3EB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03DD-5959-46BE-A344-A9762365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2D25-2DE7-4255-9EEB-AED97835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35CD-251D-4F2C-A660-35EBA0AF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29DF-8EDA-4734-B6C4-6841C4F0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6933-7E36-42F4-A197-51FA9F73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8BE3-3B03-4B1B-BB6A-07F0B176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2706-8EB6-4BA9-A44B-D392A636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E7E0-5FEB-4215-A961-D404717B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B3D1-200D-4816-B67A-824E97F86DFC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3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Szeretettel köszöntjük vendégeinket</a:t>
            </a:r>
            <a:br>
              <a:rPr sz="3200"/>
            </a:br>
            <a:br>
              <a:rPr sz="3200"/>
            </a:b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071880"/>
            <a:ext cx="8713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 u="sng">
                <a:solidFill>
                  <a:srgbClr val="002060"/>
                </a:solidFill>
                <a:uFillTx/>
                <a:latin typeface="Arial"/>
              </a:rPr>
              <a:t>VI. DUNÁNTÚLI MANDULAFA </a:t>
            </a: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konferenciá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2060"/>
                </a:solidFill>
                <a:latin typeface="Arial"/>
              </a:rPr>
              <a:t>2021. október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Kép 3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1568520" cy="1512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59961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églalap 1"/>
          <p:cNvSpPr/>
          <p:nvPr/>
        </p:nvSpPr>
        <p:spPr>
          <a:xfrm>
            <a:off x="503280" y="5072040"/>
            <a:ext cx="81374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Az Emberi Erőforrások Minisztériuma megbízásából az Emberi Erőforrás Támogatáskezelő a Nemzeti Tehetség Program keretében kiírt a „Hazai Tudományos Diákköri műhelyek 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rendezvényeik támogatása” című NTP-HHTDK-20-0044 számú pályázat keret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Kép 8" descr=""/>
          <p:cNvPicPr/>
          <p:nvPr/>
        </p:nvPicPr>
        <p:blipFill>
          <a:blip r:embed="rId2"/>
          <a:stretch/>
        </p:blipFill>
        <p:spPr>
          <a:xfrm>
            <a:off x="755640" y="439560"/>
            <a:ext cx="2016000" cy="1089360"/>
          </a:xfrm>
          <a:prstGeom prst="rect">
            <a:avLst/>
          </a:prstGeom>
          <a:ln w="0">
            <a:noFill/>
          </a:ln>
        </p:spPr>
      </p:pic>
      <p:pic>
        <p:nvPicPr>
          <p:cNvPr id="47" name="Kép 9" descr="http://www.emet.gov.hu/_userfiles/hirek/NTP/emmi_logo.png"/>
          <p:cNvPicPr/>
          <p:nvPr/>
        </p:nvPicPr>
        <p:blipFill>
          <a:blip r:embed="rId3"/>
          <a:stretch/>
        </p:blipFill>
        <p:spPr>
          <a:xfrm>
            <a:off x="4140360" y="439560"/>
            <a:ext cx="1439640" cy="1089360"/>
          </a:xfrm>
          <a:prstGeom prst="rect">
            <a:avLst/>
          </a:prstGeom>
          <a:ln w="0">
            <a:noFill/>
          </a:ln>
        </p:spPr>
      </p:pic>
      <p:pic>
        <p:nvPicPr>
          <p:cNvPr id="48" name="Kép 10" descr="http://www.emet.gov.hu/_userfiles/hirek/NTP/ntp_72_rgb.jpg"/>
          <p:cNvPicPr/>
          <p:nvPr/>
        </p:nvPicPr>
        <p:blipFill>
          <a:blip r:embed="rId4"/>
          <a:stretch/>
        </p:blipFill>
        <p:spPr>
          <a:xfrm>
            <a:off x="603360" y="6137280"/>
            <a:ext cx="182232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Kép 11" descr="http://www.emet.gov.hu/_userfiles/hatter_1/emet_logok/%C3%BAj%20logo/emet_logo_szines.jpg"/>
          <p:cNvPicPr/>
          <p:nvPr/>
        </p:nvPicPr>
        <p:blipFill>
          <a:blip r:embed="rId5"/>
          <a:stretch/>
        </p:blipFill>
        <p:spPr>
          <a:xfrm>
            <a:off x="6567480" y="6022800"/>
            <a:ext cx="19969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1:17:51Z</dcterms:created>
  <dc:creator>Bence Andi</dc:creator>
  <dc:description/>
  <dc:language>en-US</dc:language>
  <cp:lastModifiedBy>Geiger Lívia</cp:lastModifiedBy>
  <dcterms:modified xsi:type="dcterms:W3CDTF">2021-10-19T12:33:52Z</dcterms:modified>
  <cp:revision>11</cp:revision>
  <dc:subject/>
  <dc:title>DUNÁNTÚLI MANDULAFA</dc:title>
</cp:coreProperties>
</file>